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23A-A967-4D85-B103-55D47337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019-6F5B-4092-95DA-1EA21F48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560-97B5-4571-9115-A9992163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B6AE-40FF-4B95-9039-72FEA8CC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E643-3908-412A-9BF8-88C124B2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B8E2-A93D-434C-B78F-4C88C6D5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6188-DBF8-4846-89B1-7A158C2B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F257-C1C3-4720-8AFE-71B1285C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FD1E-AB85-406F-AA4E-2CE24FB3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DD52-EC44-48D4-BFAB-19B9E50E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40BE-90DD-4084-8526-BDDF2554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D74-13FC-4CCA-8B05-990BEE96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D1E7-D9D9-4D38-BEDD-FC0B9B2C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D0C9-E7B8-4351-827B-1028CD52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DDDF-4B1A-4AAA-8C31-587CF002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F1E1-E529-45B6-8793-20D206C7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E15E-74E4-47A3-98D5-8F54B875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900-9F39-44A9-BCD2-43F0A5B9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75AD-0CB4-4A0A-B94A-FB648EB7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8053-6672-4125-AF4F-5661E7A9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3B5-D1B1-4C65-8AAD-2BFE2727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880-0F10-4D93-B301-037E8DAF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0AC-CBFB-42A1-B4BA-6150046B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B03-8FA4-41A1-914E-9A10AE73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242A-A840-44BF-AA68-10B663C1003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BF42-B672-4231-B92C-674EB351C33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990720" y="3200400"/>
            <a:ext cx="739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os verbos reflexivos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Os laváis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Vosotros (lavarse) el pelo con champú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preparan 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los ( prepararse) rápidament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entrena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Luisa (entrenarse) todos los días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1425240"/>
            <a:ext cx="809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peinan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14400" y="2927520"/>
            <a:ext cx="74167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Ellas (peinarse) el pelo en el baño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Nos secamos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53316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Nosotros(secarse) con unas toallas grandes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Te despiertas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2927520"/>
            <a:ext cx="78739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Todos los días tú (despertarse- e&gt;ie) a las 5:30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cepilla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90720" y="2927520"/>
            <a:ext cx="73404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Paco (cepillarse) los dientes 3 veces cada día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"/>
              </a:rPr>
              <a:t>El Pretérito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Me levanté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yer, yo (levantarse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A las 6:0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entrenaron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2927520"/>
            <a:ext cx="69595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Anoche ellos (entrenarse) al gimnasio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990720" y="32004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l Presente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Nos despertamos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2927520"/>
            <a:ext cx="71881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 s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ábado pasado nosotros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(despertarse) tarde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Me duché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Yo (ducharse) a las 7:00 anoche</a:t>
            </a:r>
            <a:r>
              <a:rPr b="0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Te afeitaste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142640" y="2927520"/>
            <a:ext cx="71881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Tú (afeitarse) anoche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Arial"/>
              </a:rPr>
              <a:t>Se maquilló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440" y="2927520"/>
            <a:ext cx="76453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Ayer mi amiga no (maquillarse) para la escuela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acostó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8483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Juan(acostarse) a las 11:00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Os lavasteis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Vosotros (lavarse) el pelo con champú ayer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prepararon 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los ( prepararse) rápidamente ayer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te entrenaste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Tú (entrenarse) ayer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1425240"/>
            <a:ext cx="809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peinaron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2927520"/>
            <a:ext cx="74167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Ellas (peinarse) en el baño ayer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Nos secamos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Nosotros(secarse) con unas toallas grandes ayer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Me levant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iempre yo (levantarse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A las 6:0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Te despertaste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2927520"/>
            <a:ext cx="78739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Tú(despertarse) a las 5:30 esta mañana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cepilló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90720" y="2927520"/>
            <a:ext cx="73404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Paco (cepillarse) los dientes 3 veces ayer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acostó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8483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Juan(acostarse) a las 11:00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Los verbos compañeros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lexive pronouns are attached to the infinitive in a verb phrase with a verbo compañe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levantar</a:t>
            </a:r>
            <a:r>
              <a:rPr b="1" lang="en-US" sz="8800" spc="-1" strike="noStrike" u="sng">
                <a:solidFill>
                  <a:srgbClr val="ff0000"/>
                </a:solidFill>
                <a:uFillTx/>
                <a:latin typeface="Arial"/>
              </a:rPr>
              <a:t>me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Yo quiero levantar_____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preparar</a:t>
            </a:r>
            <a:r>
              <a:rPr b="1" lang="en-US" sz="8800" spc="-1" strike="noStrike" u="sng">
                <a:solidFill>
                  <a:srgbClr val="ff0000"/>
                </a:solidFill>
                <a:uFillTx/>
                <a:latin typeface="Arial"/>
              </a:rPr>
              <a:t>se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los  van a preparar___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ntrenar</a:t>
            </a:r>
            <a:r>
              <a:rPr b="1" lang="en-US" sz="8800" spc="-1" strike="noStrike" u="sng">
                <a:solidFill>
                  <a:srgbClr val="ff0000"/>
                </a:solidFill>
                <a:uFillTx/>
                <a:latin typeface="Arial"/>
              </a:rPr>
              <a:t>te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Tú vas a entrenar__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1425240"/>
            <a:ext cx="809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peinar</a:t>
            </a:r>
            <a:r>
              <a:rPr b="1" lang="en-US" sz="8800" spc="-1" strike="noStrike" u="sng">
                <a:solidFill>
                  <a:srgbClr val="ff0000"/>
                </a:solidFill>
                <a:uFillTx/>
                <a:latin typeface="Arial"/>
              </a:rPr>
              <a:t>nos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14400" y="2927520"/>
            <a:ext cx="74167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Vamos a peinar__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car</a:t>
            </a:r>
            <a:r>
              <a:rPr b="1" lang="en-US" sz="8800" spc="-1" strike="noStrike" u="sng">
                <a:solidFill>
                  <a:srgbClr val="ff0000"/>
                </a:solidFill>
                <a:uFillTx/>
                <a:latin typeface="Arial"/>
              </a:rPr>
              <a:t>te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Tú quieres secar____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despertar</a:t>
            </a:r>
            <a:r>
              <a:rPr b="1" lang="en-US" sz="8800" spc="-1" strike="noStrike" u="sng">
                <a:solidFill>
                  <a:srgbClr val="ff0000"/>
                </a:solidFill>
                <a:uFillTx/>
                <a:latin typeface="Arial"/>
              </a:rPr>
              <a:t>os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2927520"/>
            <a:ext cx="78739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Vosotros vais a despertar_____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ponen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927520"/>
            <a:ext cx="69595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Generalmente ellos (ponerse) los jeans para ir a la escuel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cepillar</a:t>
            </a:r>
            <a:r>
              <a:rPr b="1" lang="en-US" sz="8800" spc="-1" strike="noStrike" u="sng">
                <a:solidFill>
                  <a:srgbClr val="ff0000"/>
                </a:solidFill>
                <a:uFillTx/>
                <a:latin typeface="Arial"/>
              </a:rPr>
              <a:t>se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990720" y="2927520"/>
            <a:ext cx="73404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Paco va a cepillar__ los dientes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Nos despertamos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2640" y="2927520"/>
            <a:ext cx="71881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Los s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ábados nosotros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(despertarse) tarde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Me duch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Yo (ducharse) por la noche siempre</a:t>
            </a:r>
            <a:r>
              <a:rPr b="0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Te afeitas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42640" y="2927520"/>
            <a:ext cx="71881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Tú (afeitarse) por la noche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Arial"/>
              </a:rPr>
              <a:t>Se maquilla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440" y="2927520"/>
            <a:ext cx="76453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A veces mi amiga no (maquillarse) para la escuela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Se acuesta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8483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Juan(acostarse-o&gt;ue) a las 11:00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1:10:45Z</dcterms:created>
  <dc:creator>Tom Shirley</dc:creator>
  <dc:description/>
  <dc:language>en-US</dc:language>
  <cp:lastModifiedBy>Windows User</cp:lastModifiedBy>
  <cp:lastPrinted>2009-04-22T19:24:48Z</cp:lastPrinted>
  <dcterms:modified xsi:type="dcterms:W3CDTF">2014-01-13T20:25:47Z</dcterms:modified>
  <cp:revision>21</cp:revision>
  <dc:subject/>
  <dc:title>PowerPoint Presentation</dc:title>
</cp:coreProperties>
</file>